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87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38040" y="655200"/>
            <a:ext cx="4383000" cy="328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3196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3196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7EEC-967E-4CDC-A7A1-7DB45AEDC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2FF9-7832-4C92-9083-B8F1CDFB8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883D-A464-4B4E-9AC6-9FEF0AA4B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33FD-45CE-458E-9A2F-7C7818BA4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Present arguments for and against considering intelligence as on general mental 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3C22-880F-4BDA-A82A-85888D9F0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A8CD-3019-4D11-B30C-0C0204CEF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4280-E9AE-4246-AFD9-72888AF42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CF34-5CE2-488B-AC80-BEE6DA2E2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Compare Gardner’s and Sternberg's theories of intellig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3D62-752A-4D53-B44C-C0C617103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9D45-CDEE-40E8-B3E8-0AD786363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0865-BD44-4D00-94EC-C0DB4BEAB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56EF-9999-40CE-85A0-D190844EE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4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escribe the four aspects of emotional intelligence, and discuss criticisms of this conce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AD63-CBED-458D-B6FD-F315B3C9A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8B91-AA7B-4D1A-A884-D1B252A3E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7597-AE77-4DD2-9A6A-B80E6FAE7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7951-4238-483D-8E87-F75B0CD68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5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Identify the factors associated with creativity, and describe the relationship between creativity and intellig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55D2-E721-4409-B533-E2FFD73D2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6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escribe the relationship between intelligence and brain anatom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0E46-7A89-4ED1-99AF-333B139D9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7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iscuss the findings on the correlations between perceptual speed, neural processing speed, and intellig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3446-B895-48E6-B465-39094290D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8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efine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elligence tes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and discuss the history of intelligence t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9FD0-8C0D-46EB-BDE1-E18135D20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6830-6E12-4562-80FE-1A2B29A78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D5D7-A5E7-4397-9B35-4300EC907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9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istinguish between aptitude and achievement tests, and describe the modern test of mental abilities, such as the WA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37EC-DF48-46C9-AA85-0EE62276A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A3CB-5F40-451F-B195-F03CA6C65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41280" y="657360"/>
            <a:ext cx="4378320" cy="32842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160520"/>
            <a:ext cx="5486400" cy="39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3D6D-D1DE-42B1-AD2A-556455D91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C865-BB18-412D-ACCE-601F47D07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D4CC-4762-42C2-8A71-F1B827D90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iscuss the importance of standardizing psychological tests, and describe the distribution of scores in a normal cur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36F0-BEC2-4F0D-95D6-43B2DF578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C1A6-C09F-43A5-A26B-66645CEDA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688E-650B-41F8-838D-131488119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Explain what it means to say that a test is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eliabl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FA23-E9B2-49FA-9F26-4F3A2D8AE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Explain what it means to say that a test is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alid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, and describe two types of valid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668E-30C2-4AA6-A9BA-E14FF1B0B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7492-7858-4AC8-AFA0-6EE79FE59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escribe the stability of intelligence scores over the life sp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4771-628D-447B-892F-AB7B376FF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4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iscuss the two extremes of the normal distribution of intellig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00B7-B16F-4FB0-8123-5432D4B0E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41280" y="657360"/>
            <a:ext cx="4378320" cy="3284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160520"/>
            <a:ext cx="5486400" cy="39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BE3E-9B4C-4855-BA6E-5F972B8FC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9B9D-7B7F-4286-89DC-45372300C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39B2-61BA-48F0-ADC1-E546D01FE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A789-4ECB-4D3A-B47A-E89D26782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5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iscuss the evidence for the genetic contribution to individual intelligence, and explain what psychologists mean by the heritability of intellig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52C0-AC59-4A87-BEFA-438014B02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F742-797F-41EE-ADAC-0A7AEDC9C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6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iscuss the evidence for environmental influences on individual intellig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BD20-5CFE-4BDB-BCE9-26A564091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7E0E-67D9-4A85-98A3-69D2ADDD2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AE45-8E38-40B7-8B3F-2DA0B9B2B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D990-9540-4E0A-9306-84400209E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7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escribe ethnic similarities and differences in intelligence test scores, and discuss some genetic and environmental factors that might explain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56CD-8275-42BC-9749-5DE4CDD9A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41280" y="657360"/>
            <a:ext cx="4378320" cy="32842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160520"/>
            <a:ext cx="5486400" cy="39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BA40-C29A-4C32-AB19-4EBB2FDEE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1D61-4A1F-4570-BD86-57E9D10ED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71C8-7BFF-4915-8936-24A86FAE2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B56C-19E9-4275-8298-62DE23709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8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escribe gender differences in abil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0234-A155-465F-AE21-3BD729C54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9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iscuss whether intelligence test are biased, and describe the stereotype threat phenomen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7CBB-0406-4C52-BD11-C1B0EE546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9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iscuss whether intelligence test are biased, and describe the stereotype threat phenomen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057E-4702-4253-97C6-7DCA6B129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C6F8-7A10-4A20-A1F3-81D21342A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iscuss the difficulty of defining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elligenc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, and explain what it means to “reify intelligence.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82E8-6350-4440-9EEB-63872FCF5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7644-34A9-44F2-B1D1-CE9846692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A39E-CD44-4752-A8DF-F039F6330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72EC-BF60-40FF-8F3B-698EBFEB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65C1-0670-43C1-A846-13F916E7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5B22-633E-4036-BB73-2D66238A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390F-4A01-447D-A6E0-6E8BB623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DD99-3D79-4E36-9A7F-27472578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0FCD-3A00-4AD9-850E-3E376DEB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CB8A-972F-49E2-AD87-42ECA100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355B-DC4F-40FB-B225-09A2994A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590F-CC05-4EB9-952E-35DD0A80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8BC5-C201-4D0D-9596-E4DE2096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DB27-80C3-476B-B5B0-3DC63868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20CC-2473-4052-B6EA-F0FD1B092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su.edu/dept/dap/StyleGuide/Images/c_oval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7388-569A-4F71-A590-1865D522A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66720" y="1999800"/>
            <a:ext cx="7772400" cy="169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Palatino Linotype"/>
              </a:rPr>
              <a:t>PSYCHOLOGY</a:t>
            </a:r>
            <a:br>
              <a:rPr sz="4800"/>
            </a:b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(8th Edition)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David M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144880" y="4114800"/>
            <a:ext cx="4827600" cy="24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PowerPoint Slid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Aneeq Ahm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Henderson State Univers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orth Publishers, ©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c_oval_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29000" y="5315040"/>
            <a:ext cx="48420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B7E4-1669-419B-BF2F-A557D97D7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Intelligence: Ability or Abiliti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71400" y="1590840"/>
            <a:ext cx="777240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ave you ever thought that since people’s mental abilities are so diverse, it may not be justifiable to label those abilities with only one word, 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intelligence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652320" y="3571920"/>
            <a:ext cx="779148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You may speculate that diverse abilities represent different kinds of intelligences. How can you test this idea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5E53-6281-446A-AECF-C9111B0D5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eneral Intelli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idea that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general intelligence (</a:t>
            </a:r>
            <a:r>
              <a:rPr b="0" i="1" lang="en-US" sz="2800" spc="-1" strike="noStrike">
                <a:solidFill>
                  <a:srgbClr val="0000ff"/>
                </a:solidFill>
                <a:latin typeface="Palatino Linotype"/>
              </a:rPr>
              <a:t>g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exists comes from the work of Charles Spearman (1863-1945) who helped develop the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factor analysi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pproach in statistics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86" name="Picture 6" descr="MyersPsy8e_11UN01"/>
          <p:cNvPicPr/>
          <p:nvPr/>
        </p:nvPicPr>
        <p:blipFill>
          <a:blip r:embed="rId1"/>
          <a:stretch/>
        </p:blipFill>
        <p:spPr>
          <a:xfrm>
            <a:off x="2733840" y="3429000"/>
            <a:ext cx="3646440" cy="2735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1803240" y="6194520"/>
            <a:ext cx="550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Athleticism, like intelligence, is many thing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122D-A9BA-4C5D-B43A-BD53BF876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eneral Intelli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71400" y="16002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pearman proposed that </a:t>
            </a:r>
            <a:r>
              <a:rPr b="0" i="1" lang="en-US" sz="2800" spc="-1" strike="noStrike">
                <a:solidFill>
                  <a:srgbClr val="0000ff"/>
                </a:solidFill>
                <a:latin typeface="Palatino Linotype"/>
              </a:rPr>
              <a:t>general intelligence (g)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s linked to many clusters that can be analyzed by factor analysis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652320" y="3352680"/>
            <a:ext cx="77914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or example, people who do well on vocabulary examinations do well on paragraph comprehension examinations, a cluster that helps define verbal intelligence. Other factors include a spatial ability factor, or a reasoning ability factor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E595-C01C-40C3-B42B-5206E4648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eneral Intelli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671400" y="1600200"/>
            <a:ext cx="77724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. L. Thurstone, a critic of Spearman, analyzed his subjects NOT on a single scale of general intelligence, but on seven clusters of 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primary mental abilities,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cluding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481120" y="3581280"/>
            <a:ext cx="4148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ord Fluency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Verbal Comprehension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patial Ability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erceptual Speed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Numerical Ability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nductive Reasoning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D3E3-0D06-4F94-8BDA-9849AD6E4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eneral Intelli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71400" y="1600200"/>
            <a:ext cx="77724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ater psychologists analyzed Thurstone’s data and found a weak relationship between these clusters, suggesting some evidence of a 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factor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8FC7-69A8-4007-B4E6-5095ADEE0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ontemporary Intelligence Theo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6714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oward Gardner (1983, 1999) supports Thurstone’s idea that intelligence comes in multiple forms. Gardner notes that brain damage may diminish one type of ability but not others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2" name="Picture 6" descr="MyersPsy8e_11UN02"/>
          <p:cNvPicPr/>
          <p:nvPr/>
        </p:nvPicPr>
        <p:blipFill>
          <a:blip r:embed="rId1"/>
          <a:stretch/>
        </p:blipFill>
        <p:spPr>
          <a:xfrm>
            <a:off x="1995480" y="3809880"/>
            <a:ext cx="5124600" cy="22021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1680840" y="6019920"/>
            <a:ext cx="578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eople with </a:t>
            </a:r>
            <a:r>
              <a:rPr b="0" lang="en-US" sz="2000" spc="-1" strike="noStrike">
                <a:solidFill>
                  <a:srgbClr val="0000ff"/>
                </a:solidFill>
                <a:latin typeface="Palatino Linotype"/>
              </a:rPr>
              <a:t>savant syndrome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excel in abilitie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unrelated to general intelligence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9F0D-5AC8-4224-AAF1-15C7B26E5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Howard Gardn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80880" y="1428840"/>
            <a:ext cx="838224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ardner proposes eight types of intelligences and speculates about a ninth one — 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existential intelligence. 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xistential intelligence is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ability to think about the question of life, death and existence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7" name="Picture 5" descr="MyersPsy8e_Table"/>
          <p:cNvPicPr/>
          <p:nvPr/>
        </p:nvPicPr>
        <p:blipFill>
          <a:blip r:embed="rId1"/>
          <a:stretch/>
        </p:blipFill>
        <p:spPr>
          <a:xfrm>
            <a:off x="2311560" y="3352680"/>
            <a:ext cx="4489200" cy="34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9986-8971-4B75-BB0B-AEFAC4465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Robert Sternbe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80880" y="1600200"/>
            <a:ext cx="83822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ernberg (1985, 1999, 2003) also agrees with Gardner, but suggests three intelligences rather than eight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52320" y="3571920"/>
            <a:ext cx="779148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Analytical Intelligence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Intelligence that is assessed by intelligence tests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Creative Intelligence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Intelligence that makes us adapt to novel situations, generating novel ideas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Practical Intelligence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Intelligence that is required for everyday tasks (e.g. street smarts)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3DB1-EB8A-4F78-8596-C89025252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ories: Compari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5" descr="MyersPsy8e_Table"/>
          <p:cNvPicPr/>
          <p:nvPr/>
        </p:nvPicPr>
        <p:blipFill>
          <a:blip r:embed="rId1"/>
          <a:stretch/>
        </p:blipFill>
        <p:spPr>
          <a:xfrm>
            <a:off x="507960" y="2133720"/>
            <a:ext cx="81280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99A4-2979-47EE-92DC-7AD913F70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Emotional Intellig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671400" y="160020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motional intelligence is the ability to perceive, understand, and use emotions (Salovey and colleagues, 2005). The test of emotional intelligence measures overall emotional intelligence and its four components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9C03-2934-4D5A-9296-3B4575094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9280" y="2224080"/>
            <a:ext cx="7681680" cy="31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alatino Linotype"/>
              </a:rPr>
              <a:t>Intelligence</a:t>
            </a:r>
            <a:br>
              <a:rPr sz="5400"/>
            </a:br>
            <a:br>
              <a:rPr sz="5400"/>
            </a:br>
            <a:r>
              <a:rPr b="0" lang="en-US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Chapter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2" descr="MyersPsy8e_CO_Ch11"/>
          <p:cNvPicPr/>
          <p:nvPr/>
        </p:nvPicPr>
        <p:blipFill>
          <a:blip r:embed="rId1"/>
          <a:stretch/>
        </p:blipFill>
        <p:spPr>
          <a:xfrm>
            <a:off x="380880" y="380880"/>
            <a:ext cx="156240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8E51-6A84-46A9-84FA-79BB81605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Emotional Intelligence: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5800" y="1523880"/>
          <a:ext cx="7772400" cy="3795840"/>
        </p:xfrm>
        <a:graphic>
          <a:graphicData uri="http://schemas.openxmlformats.org/drawingml/2006/table">
            <a:tbl>
              <a:tblPr/>
              <a:tblGrid>
                <a:gridCol w="3124080"/>
                <a:gridCol w="4648320"/>
              </a:tblGrid>
              <a:tr h="604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Compon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88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Perceive emo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Recognize emotions in faces, music and stor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Understand emo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Predict emotions, how they change and bl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88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Manage emo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Express emotions in different situ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88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Use emo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Utilize emotions to adapt or be cre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EB2A-52EB-41A7-A0BC-7A205EC5A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Emotional Intelligence: Critic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380880" y="160020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ardner and others criticize the idea of emotional intelligence and question whether we stretch this idea of intelligence too far when we apply it to our emotions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1389-5809-4CF4-BE34-C80B4A04A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Intelligence and Creativ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80880" y="16002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reativity is the ability to produce ideas that are both novel and valuable. It correlates somewhat with intelligence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7" name="Rectangle 35"/>
          <p:cNvSpPr/>
          <p:nvPr/>
        </p:nvSpPr>
        <p:spPr>
          <a:xfrm>
            <a:off x="380880" y="2971800"/>
            <a:ext cx="8382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Expertise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A well-developed knowledge base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Imaginative Thinking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The ability to see things in novel ways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Adventuresome Personality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A personality that seeks new experiences rather than following the pack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Intrinsic Motivation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A motivation to be creative from within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A Creative Environment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A creative and supportive environment allows creativity to bloom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1CC8-89F1-4F4D-97F1-5F5DE38EF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Is Intelligence Neurologically Measurab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80880" y="1600200"/>
            <a:ext cx="83822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ecent Studies indicate some correlation (about +.40) between brain size and intelligence. As brain size decreases with age, scores on verbal intelligence tests also decrease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31" name="Picture 5" descr="MyersPsy8e_fig"/>
          <p:cNvPicPr/>
          <p:nvPr/>
        </p:nvPicPr>
        <p:blipFill>
          <a:blip r:embed="rId1"/>
          <a:stretch/>
        </p:blipFill>
        <p:spPr>
          <a:xfrm>
            <a:off x="3040200" y="3429000"/>
            <a:ext cx="3027240" cy="29480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876240" y="6346800"/>
            <a:ext cx="736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Gray matter concentration in people with high intelligence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59B7-A6AE-4D8C-8E46-AB58B3460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Brain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66840" y="160020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udies of brain functions show that people who score high on intelligence tests perceive stimuli faster, retrieve information from memory quicker, and show faster brain response times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36" name="Picture 8" descr="MyersPsy8e_fig"/>
          <p:cNvPicPr/>
          <p:nvPr/>
        </p:nvPicPr>
        <p:blipFill>
          <a:blip r:embed="rId1"/>
          <a:stretch/>
        </p:blipFill>
        <p:spPr>
          <a:xfrm>
            <a:off x="2571840" y="3352680"/>
            <a:ext cx="3981240" cy="2694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0"/>
          <p:cNvSpPr/>
          <p:nvPr/>
        </p:nvSpPr>
        <p:spPr>
          <a:xfrm>
            <a:off x="581040" y="6095880"/>
            <a:ext cx="794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eople with higher intelligence respond correctly and quickly to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e above question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D209-427B-46CB-907D-8E70B70A5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Assessing Intelli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366840" y="160020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sychologists define intelligence testing as a method for assessing an individual’s mental aptitudes and comparing them with others using numerical scores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E31C-DDAF-4363-B825-030F1E22D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Alfred Bi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66840" y="1600200"/>
            <a:ext cx="4205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lfred Binet and his colleague Théodore Simon practiced a more modern form of intelligence testing by developing questions that would predict children’s future progress in the Paris school system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44" name="Picture 4" descr="MyersPsy8e_11UN07"/>
          <p:cNvPicPr/>
          <p:nvPr/>
        </p:nvPicPr>
        <p:blipFill>
          <a:blip r:embed="rId1"/>
          <a:stretch/>
        </p:blipFill>
        <p:spPr>
          <a:xfrm>
            <a:off x="4902120" y="1600200"/>
            <a:ext cx="38466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F4AB-CA39-4B04-9551-4486701F5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Lewis Ter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6" descr="MyersPsy8e_11UN09"/>
          <p:cNvPicPr/>
          <p:nvPr/>
        </p:nvPicPr>
        <p:blipFill>
          <a:blip r:embed="rId1"/>
          <a:stretch/>
        </p:blipFill>
        <p:spPr>
          <a:xfrm>
            <a:off x="4764240" y="1752480"/>
            <a:ext cx="3693960" cy="41148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366840" y="1295280"/>
            <a:ext cx="42051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 the US, Lewis Terman adapted Binet’s test for American school children and named the test the Stanford-Binet Test. The following is the formula of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Intelligence Quotient (IQ),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introduced by William Stern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49" name="Picture 8" descr="IQ Formula"/>
          <p:cNvPicPr/>
          <p:nvPr/>
        </p:nvPicPr>
        <p:blipFill>
          <a:blip r:embed="rId2"/>
          <a:stretch/>
        </p:blipFill>
        <p:spPr>
          <a:xfrm>
            <a:off x="685800" y="5486400"/>
            <a:ext cx="3730680" cy="10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FA92-2AD7-4B0E-A288-14F6B6358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Aptitude and Achievement Te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66840" y="160020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Aptitude test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re intended to 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predict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your ability to learn a new skill and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achievement test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re intended to 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reflect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what you have already learned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53" name="Picture 4" descr="MyersPsy8e_fig"/>
          <p:cNvPicPr/>
          <p:nvPr/>
        </p:nvPicPr>
        <p:blipFill>
          <a:blip r:embed="rId1"/>
          <a:stretch/>
        </p:blipFill>
        <p:spPr>
          <a:xfrm>
            <a:off x="1911240" y="3124080"/>
            <a:ext cx="5292720" cy="33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C533-650A-4FF2-AB2C-279AD5C8B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David Wechs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366840" y="1600200"/>
            <a:ext cx="4205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echsler developed the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Wechsler Adult Intelligence Scale (WAIS)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nd later the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Wechsler Intelligence Scale for Children (WISC),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n intelligence test for preschoolers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57" name="Picture 8" descr="MyersPsy8e_11UN10"/>
          <p:cNvPicPr/>
          <p:nvPr/>
        </p:nvPicPr>
        <p:blipFill>
          <a:blip r:embed="rId1"/>
          <a:stretch/>
        </p:blipFill>
        <p:spPr>
          <a:xfrm>
            <a:off x="4983120" y="1600200"/>
            <a:ext cx="34750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5351-064F-43E7-9E9A-FC594B336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Intelli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33160" y="1595160"/>
            <a:ext cx="625788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What is Intelligenc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s Intelligence One General Ability or Several Specific Abiliti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motional Intellig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telligence and Crea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s Intelligence Neurologically Measura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C2B1-659D-4396-A9E4-1DE5FFAE9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WA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519120" y="16002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AIS measures overall intelligence and 11 other aspects related to intelligence that are designed to assess clinical and educational problems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61" name="Picture 6" descr="MyersPsy8e_fig"/>
          <p:cNvPicPr/>
          <p:nvPr/>
        </p:nvPicPr>
        <p:blipFill>
          <a:blip r:embed="rId1"/>
          <a:stretch/>
        </p:blipFill>
        <p:spPr>
          <a:xfrm>
            <a:off x="1743120" y="3048120"/>
            <a:ext cx="5662440" cy="36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FE74-171A-4D0F-AC8E-47D3DB835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Principles of Test Constr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519120" y="160020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or a psychological test to be acceptable it must fulfill the following three criteria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2867040" y="3200400"/>
            <a:ext cx="33764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andardization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Validity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9C68-7586-4EA7-BA89-D07DC4885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tandard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366840" y="160020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andardizing a test involves administering the test to a representative sample of future test takers in order to establish a basis for meaningful comparison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036A-6780-4399-9644-9B0802933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Normal Cur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519120" y="1600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andardized tests establish a normal distribution of scores on a tested population in a bell-shaped pattern called the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normal curv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72" name="Picture 5" descr="MyersPsy8e_fig"/>
          <p:cNvPicPr/>
          <p:nvPr/>
        </p:nvPicPr>
        <p:blipFill>
          <a:blip r:embed="rId1"/>
          <a:stretch/>
        </p:blipFill>
        <p:spPr>
          <a:xfrm>
            <a:off x="1019160" y="3200400"/>
            <a:ext cx="6186600" cy="333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82BF-D1DB-481E-AB08-7DA7AB8DD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lynn Eff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519120" y="1600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 the past 60 years, intelligence scores have risen steadily by an average of 27 points.  This  phenomenon is known as the Flynn effect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76" name="Picture 9" descr="MyersPsy8e_fig"/>
          <p:cNvPicPr/>
          <p:nvPr/>
        </p:nvPicPr>
        <p:blipFill>
          <a:blip r:embed="rId1"/>
          <a:stretch/>
        </p:blipFill>
        <p:spPr>
          <a:xfrm>
            <a:off x="671400" y="3200400"/>
            <a:ext cx="777240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0274-35A3-4F90-8BFA-AD893457F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Reli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66840" y="16002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test is 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reliabl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when it yields consistent results. To establish reliability researchers establish different procedures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685800" y="342900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Split-half Reliability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Dividing the test into two equal halves and assessing how consistent the scores are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Reliability using different tests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Using different forms of the test to measure consistency between them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Test-Retest Reliability: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Using the same test on two occasions to measure consistency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788C-AEAF-4AD2-AA87-69B477BEB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Valid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366840" y="16002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eliability of a test does not ensure validity. Validity of a test refers to what the test is supposed to measure or predict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671400" y="34290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Content Validity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Refers to the extent a test measures a particular behavior or trait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Predictive Validity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Refers to the function of a test in predicting a particular behavior or trait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1B4D-7236-4147-9E6D-266EC9771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The Dynamics of Intellig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519120" y="1752480"/>
            <a:ext cx="80773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oes intelligence remain stable over a lifetime or does it change? Are individuals on the two extremes of the intelligence scale really that different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B1E7-EF17-4AD6-970B-03083C2D7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tability or Chan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66840" y="16002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telligence scores become stable after about seven years of age. In numerous studies, stability of intelligence scores have been determined (Angoff, 1988; Deary et al., 2004)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91" name="Picture 5" descr="MyersPsy8e_fig"/>
          <p:cNvPicPr/>
          <p:nvPr/>
        </p:nvPicPr>
        <p:blipFill>
          <a:blip r:embed="rId1"/>
          <a:stretch/>
        </p:blipFill>
        <p:spPr>
          <a:xfrm>
            <a:off x="1328760" y="3414600"/>
            <a:ext cx="562464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03B3-3657-4335-8BE2-5B88B7EAB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93" name="Picture 7" descr="Intelligence Extremes"/>
          <p:cNvPicPr/>
          <p:nvPr/>
        </p:nvPicPr>
        <p:blipFill>
          <a:blip r:embed="rId1"/>
          <a:stretch/>
        </p:blipFill>
        <p:spPr>
          <a:xfrm>
            <a:off x="2025720" y="3429000"/>
            <a:ext cx="5064120" cy="31701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xtremes of Intelli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66840" y="1419120"/>
            <a:ext cx="8381880" cy="22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valid intelligence test divides two groups of people into two extremes: the mentally retarded (IQ 70) and individuals with high intelligence (IQ 135). These two groups are significantly different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9A1D-9AFF-4DC9-91CA-4C70B9F89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Intelli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3160" y="1595160"/>
            <a:ext cx="625788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Assessing Intellig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400" indent="-2556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Origins of Intelligence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400" indent="-2556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odern Tests of Mental 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400" indent="-2556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rinciples of Test Co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The Dynamics of Intellig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400" indent="-2556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ability or Chan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400" indent="-2556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xtremes of Intellig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02EA-9AF6-4BB8-A969-88A64EDA0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Mental Retar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66840" y="160020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entally retarded individuals required constant supervision a few decades ago, but with a supportive family environment and special education they can now care for themselves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99" name="Picture 4" descr="MyersPsy8e_Table"/>
          <p:cNvPicPr/>
          <p:nvPr/>
        </p:nvPicPr>
        <p:blipFill>
          <a:blip r:embed="rId1"/>
          <a:stretch/>
        </p:blipFill>
        <p:spPr>
          <a:xfrm>
            <a:off x="685800" y="3429000"/>
            <a:ext cx="4967280" cy="3328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MyersPsy8e_11UN11 copy"/>
          <p:cNvPicPr/>
          <p:nvPr/>
        </p:nvPicPr>
        <p:blipFill>
          <a:blip r:embed="rId2"/>
          <a:stretch/>
        </p:blipFill>
        <p:spPr>
          <a:xfrm>
            <a:off x="6019920" y="3429000"/>
            <a:ext cx="23400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C90E-35FD-429E-8AD1-706858847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High Intelli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66840" y="16002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ontrary to popular belief, people with high  intelligence test scores tend to be healthy, well adjusted, and unusually successful academically.  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204" name="Picture 6" descr="MyersPsy8e_11UN12"/>
          <p:cNvPicPr/>
          <p:nvPr/>
        </p:nvPicPr>
        <p:blipFill>
          <a:blip r:embed="rId1"/>
          <a:stretch/>
        </p:blipFill>
        <p:spPr>
          <a:xfrm>
            <a:off x="3157560" y="3429000"/>
            <a:ext cx="28004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F135-2803-49C8-9FE4-E102C6942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Genetic and Environmental Influences on Intellig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366840" y="16002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o other topic in psychology is so passionately followed as the one that asks the question, “Is intelligence due to genetics or environment?”  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DA0B-19FF-43B7-8D8D-637EAA2AA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enetic Influ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5" descr="MyersPsy8e_fig"/>
          <p:cNvPicPr/>
          <p:nvPr/>
        </p:nvPicPr>
        <p:blipFill>
          <a:blip r:embed="rId1"/>
          <a:stretch/>
        </p:blipFill>
        <p:spPr>
          <a:xfrm>
            <a:off x="1004760" y="3124080"/>
            <a:ext cx="5791320" cy="36813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4"/>
          <p:cNvSpPr/>
          <p:nvPr/>
        </p:nvSpPr>
        <p:spPr>
          <a:xfrm>
            <a:off x="366840" y="160020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udies of twins, family members, and adopted children together support the idea that there is a significant genetic contribution to intelligence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53B8-4768-4409-8FF6-42ECF22EA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Adoption Stud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366840" y="160020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dopted children show a marginal correlation in verbal ability to their adopted parents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215" name="Picture 6" descr="MyersPsy8e_fig"/>
          <p:cNvPicPr/>
          <p:nvPr/>
        </p:nvPicPr>
        <p:blipFill>
          <a:blip r:embed="rId1"/>
          <a:stretch/>
        </p:blipFill>
        <p:spPr>
          <a:xfrm>
            <a:off x="700200" y="2819520"/>
            <a:ext cx="7724520" cy="34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9D94-57BC-4089-B476-AD11622F7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nvironmental Influ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366840" y="16002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udies of twins and adopted children also show the following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380880" y="2590920"/>
            <a:ext cx="83822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raternal twins raised together tend to show similarity in intelligence scores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dentical twins raised apart show slightly less similarity in their intelligence scores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7F13-51F4-4F96-95EC-A734D08CB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arly Intervention Eff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366840" y="160020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arly neglect from caregivers leads children to develop a lack of personal control over the environment, and it impoverishes their intelligence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223" name="Picture 5" descr="MyersPsy8e_11UN25"/>
          <p:cNvPicPr/>
          <p:nvPr/>
        </p:nvPicPr>
        <p:blipFill>
          <a:blip r:embed="rId1"/>
          <a:stretch/>
        </p:blipFill>
        <p:spPr>
          <a:xfrm>
            <a:off x="2629080" y="3429000"/>
            <a:ext cx="3857400" cy="26290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7"/>
          <p:cNvSpPr/>
          <p:nvPr/>
        </p:nvSpPr>
        <p:spPr>
          <a:xfrm>
            <a:off x="1242360" y="6041880"/>
            <a:ext cx="66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Romanian orphans with minima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human interaction are delayed in their development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100B-D90B-4936-A5E5-DC30D6F6E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chooling Eff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366840" y="160020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chooling is an experience that pays dividends, which is reflected in intelligence scores. Increased schooling correlates with higher intelligence scores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1970280" y="6041880"/>
            <a:ext cx="516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o increase readiness for schoolwork,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rojects like Head Start facilitate leaning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229" name="Picture 7" descr="MyersPsy8e_11UN17c"/>
          <p:cNvPicPr/>
          <p:nvPr/>
        </p:nvPicPr>
        <p:blipFill>
          <a:blip r:embed="rId1"/>
          <a:stretch/>
        </p:blipFill>
        <p:spPr>
          <a:xfrm>
            <a:off x="1133640" y="3860640"/>
            <a:ext cx="6900840" cy="21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1F63-9E4B-4B3A-A9AA-F85468ECE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Group Differences in Intelligence Test Sc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366840" y="1676520"/>
            <a:ext cx="8381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y do groups differ in intelligence? How can we make sense of these differences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9D11-6FB4-4F32-8F8A-F1E65D044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Ethnic Similarities and Dif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671400" y="30481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acial groups differ in their average intelligence scores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igh-scoring people (and groups) are more likely to attain high levels of education and income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366840" y="1600200"/>
            <a:ext cx="8381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o discuss this issue we begin with two disturbing but agreed upon facts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712A-00F2-40CC-A7E2-F89F2D665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Intelli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3160" y="1595160"/>
            <a:ext cx="625788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Genetic and Environmental Influences on Intellig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enetic Infl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nvironmental Infl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roup Differences in Intelligence Test Sc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Question of B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BFF5-27EE-40E5-AFB9-95A8C6860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Racial (Group) Dif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366840" y="1600200"/>
            <a:ext cx="8381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f we look at racial differences, white Americans score higher in average intelligence than black Americans (Avery and others, 1994). European New Zealanders score higher than native New Zealanders (Braden, 1994)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914400" y="4406760"/>
          <a:ext cx="7315200" cy="1103400"/>
        </p:xfrm>
        <a:graphic>
          <a:graphicData uri="http://schemas.openxmlformats.org/drawingml/2006/table">
            <a:tbl>
              <a:tblPr/>
              <a:tblGrid>
                <a:gridCol w="3657600"/>
                <a:gridCol w="3657600"/>
              </a:tblGrid>
              <a:tr h="533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White-Americ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Black-Americ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69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verage IQ = 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verage IQ = 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41" name="Text Box 40"/>
          <p:cNvSpPr/>
          <p:nvPr/>
        </p:nvSpPr>
        <p:spPr>
          <a:xfrm>
            <a:off x="3006720" y="5994360"/>
            <a:ext cx="310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Hispanic American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2" name="Line 41"/>
          <p:cNvSpPr/>
          <p:nvPr/>
        </p:nvSpPr>
        <p:spPr>
          <a:xfrm flipV="1">
            <a:off x="4572000" y="5509800"/>
            <a:ext cx="0" cy="484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3E88-EBFE-4D3C-952B-1927F7B16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nvironmental Eff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366840" y="1419120"/>
            <a:ext cx="838188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ifferences in intelligence among these groups are largely environmental, as if one environment is more fertile in developing these abilities than another. 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246" name="Picture 20" descr="MyersPsy8e_fig"/>
          <p:cNvPicPr/>
          <p:nvPr/>
        </p:nvPicPr>
        <p:blipFill>
          <a:blip r:embed="rId1"/>
          <a:stretch/>
        </p:blipFill>
        <p:spPr>
          <a:xfrm>
            <a:off x="507960" y="3124080"/>
            <a:ext cx="812808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6E08-1962-4178-ADA7-0092A2754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Reasons Why Environment Affects Intellig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21"/>
          <p:cNvSpPr/>
          <p:nvPr/>
        </p:nvSpPr>
        <p:spPr>
          <a:xfrm>
            <a:off x="6714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Races are remarkably alike genetically.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Race is a social category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sian students outperform North American students on math achievement and aptitude tests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oday’s better prepared populations would outperform populations of the 1930s on intelligence tests.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hite and black infants tend to score equally well on tests predicting future intelligence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ifferent ethnic groups have experienced periods of remarkable achievement in different eras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0771-BF58-40D0-8614-D4F73EF11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Gender Similarities and Dif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366840" y="1600200"/>
            <a:ext cx="8381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re are seven ways in which males and females differ in various abilities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157400" y="2590920"/>
          <a:ext cx="6796080" cy="4084560"/>
        </p:xfrm>
        <a:graphic>
          <a:graphicData uri="http://schemas.openxmlformats.org/drawingml/2006/table">
            <a:tbl>
              <a:tblPr/>
              <a:tblGrid>
                <a:gridCol w="6796080"/>
              </a:tblGrid>
              <a:tr h="46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. Girls are better spell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. Girls are verbally fluent and have large vocabula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0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3. Girls are better at locating ob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4. Girls are more sensitive to touch, taste, and 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5. Boys outnumber girls in counts of underachiev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6. Boys outperform girls at math problem solving, but under perform at math compu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0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7. Women detect emotions more easily than men 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E66B-ED0C-4095-93A8-7DCCE0F83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 Question of B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366840" y="16002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ptitude tests are necessarily biased in the sense that they are sensitive to performance differences caused by cultural differences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366840" y="38862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owever, aptitude tests are not biased in the sense that they accurately predict performance of one group over the other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CD97-3B0E-46D4-8F5F-3815B106E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tereotype Thre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519120" y="16002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stereotype threat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is a self-confirming concern that one will be evaluated based on a negative stereotype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519120" y="35812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is phenomenon appears in some instances in intelligence testing among African-Americans and among women of all colors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FC10-5A4E-4E84-BDBD-AB91840F1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Intelli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671400" y="16002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o we have an inborn general mental capacity (intelligence)? If so, can we quantify this capacity as a meaningful number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FCCD-4003-47A1-B84E-905D797B5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What is Intelligenc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6"/>
          <p:cNvSpPr/>
          <p:nvPr/>
        </p:nvSpPr>
        <p:spPr>
          <a:xfrm>
            <a:off x="671400" y="16002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Intelligenc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(in all cultures) is the ability to learn from experience, solve problems, and use our knowledge to adapt to new situations.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Rectangle 47"/>
          <p:cNvSpPr/>
          <p:nvPr/>
        </p:nvSpPr>
        <p:spPr>
          <a:xfrm>
            <a:off x="666720" y="4038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 research studies, 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intelligenc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is whatever the intelligence test measures. This tends to be “school smarts.”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D786-9646-4C78-BC1C-80F0A9595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Conceptual Difficul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671400" y="16002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sychologists believe that intelligence is a concept and not a thing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685800" y="342900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en we think of intelligence as a trait (thing) we make an error called </a:t>
            </a:r>
            <a:r>
              <a:rPr b="0" i="1" lang="en-US" sz="2800" spc="-1" strike="noStrike">
                <a:solidFill>
                  <a:srgbClr val="0000ff"/>
                </a:solidFill>
                <a:latin typeface="Palatino Linotype"/>
              </a:rPr>
              <a:t>reification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— viewing an abstract immaterial concept as if it were a concrete thing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B3FA-5BF8-472B-B7C3-49EA518B7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ontroversies About Intellig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71400" y="1590840"/>
            <a:ext cx="777240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espite general agreement among psychologists about the nature of intelligence, two controversies remain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652320" y="3571920"/>
            <a:ext cx="77914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s intelligence a single overall ability or is it several specific abilities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ith modern neuroscience techniques, can we locate and measure intelligence within the brain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5T00:32:17Z</dcterms:created>
  <dc:creator>HSU </dc:creator>
  <dc:description/>
  <dc:language>en-US</dc:language>
  <cp:lastModifiedBy>dpark</cp:lastModifiedBy>
  <dcterms:modified xsi:type="dcterms:W3CDTF">2010-02-25T14:11:23Z</dcterms:modified>
  <cp:revision>1994</cp:revision>
  <dc:subject/>
  <dc:title>Memory</dc:title>
</cp:coreProperties>
</file>